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325-6795-44DE-9BBE-7E1CC8FF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8A0-32BD-41CF-8206-927749A8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FB1-BA08-4CA5-A796-99035F4D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82C-A26B-4A4A-8732-85AD3BCE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748-5FE2-49AF-973E-DA18F1DD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A1F3-53C9-4812-A551-4C88C1ED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BA4A-E28C-4028-91EE-B1438CDF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ABB-67B3-48A7-BA22-A1755530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CC2-C7F3-401B-951F-2280AD45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5A5-3B7E-450F-BF16-BCD7F89E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C0E-36D3-4531-A2A5-1C58E879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62B-48EB-4C5D-A946-E2609828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E0CA-ACF5-4642-BEE2-1B863632557C}" type="slidenum">
              <a:rPr b="0" lang="ar-SA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200" spc="-1" strike="noStrike">
                <a:solidFill>
                  <a:srgbClr val="ffffff"/>
                </a:solidFill>
                <a:latin typeface="Tahoma"/>
                <a:cs typeface="????Boutros Rokaa"/>
              </a:rPr>
              <a:t>اليوم عُلق</a:t>
            </a:r>
            <a:endParaRPr b="0" lang="en-US" sz="1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ea typeface="Akhbar MT"/>
              </a:rPr>
              <a:t> اليوم عُلِّق على خَشَبَ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ذي عَلَّقَ الأرضَ على المياه. إكليلٌ من شوكٍ وُضِعَ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على هامَةِ مَلِكِ الملائكة. 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برفيراً كاذباً تسربل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ذي وشّح السماءَ بالغيوم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قَبلَ لطمةً الذي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أعتقَ آدمَ في الأردُن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خَتَنُ البيعةِ سُمِّرَ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بالمسامير وابنُ العذراءِ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طُعِنَ بحربة.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نسجدُ لآلامِكَ أيها المسيح 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أرِنا قيامَتَكَ المجيدة.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1:44:59Z</dcterms:created>
  <dc:creator>-</dc:creator>
  <dc:description/>
  <dc:language>en-US</dc:language>
  <cp:lastModifiedBy>-</cp:lastModifiedBy>
  <dcterms:modified xsi:type="dcterms:W3CDTF">2003-04-18T11:44:59Z</dcterms:modified>
  <cp:revision>1</cp:revision>
  <dc:subject/>
  <dc:title>Slide 1</dc:title>
</cp:coreProperties>
</file>